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B70-847E-481B-97CC-648AD600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7088-5D09-4D1D-956C-A2899E7F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C36B-3EDD-4FD5-B9C7-8AD28E95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33B2-7206-4034-996E-9249B3B4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EF38-BB71-453E-BA87-04FC8366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06EA-3F87-43A5-9880-EA27306E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5A81-D89B-4706-A9F9-823B1A38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0967-A29E-48AE-B193-D31FEFC2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C2A1-6393-4E6F-B41C-8F89F0F0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9F3D-0BC2-471D-BA72-B404C064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57DB-81F7-4C54-B814-CB6E62B6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12A-DA5F-44F5-83EC-375EE137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D428-81FE-4EED-92FC-A2272951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98AF-3D65-4CBF-9DC8-BB38916B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FFB2-DC4B-40D2-91A0-209C2AE5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24AF-20AA-40DA-85D1-8705636A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15C2-24A2-457F-8DAB-35DA24D5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28C-0D2B-47AE-B0E0-60485F32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5E5-7108-42B1-A92F-37A27DC7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B76-E1F5-496C-AA72-BCD24052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E20-D8F8-4D9F-AB12-D9F7D639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C22F-F1EF-4367-B53B-541C7B49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197E-CB7A-4A60-8478-98613834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DF0-587E-4DB4-B97E-B04B4ED3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CF58-5BA5-4610-99FA-AC9182002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2ABB-ED41-4EAF-B772-255B288C110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arlotte Danielson</a:t>
            </a:r>
            <a:r>
              <a:rPr b="0" lang="ja-JP" sz="28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Four Domains of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aching Responsibility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771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nning and Prepa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Classroom Environ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stru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fessional Responsi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109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anning and Prepar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7680" y="1828440"/>
            <a:ext cx="8896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a: Demonstrating Knowledge of Content and Pedagog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b: Demonstrating Knowledge of Stud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c: Selecting Instructional Goal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d: Demonstrating Knowledge of Resourc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e: Designing Coherent Instruc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f: Assessing Student Lear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Classroom Environmen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057400"/>
            <a:ext cx="8896320" cy="41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a: Creating an Environment of Respect and Rappor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b: Establishing a Culture for Lear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c: Managing Classroom Procedur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d: Managing Student Behavi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e: Organizing Physical Spa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stru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1981080"/>
            <a:ext cx="8896320" cy="42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a: Communicating Clearly and Accuratel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b: Using Questioning and Discussion Techniqu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c: Engaging Students in Lear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d: Providing Feedback to Stud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e: Demonstrating Flexibility and Responsivenes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ofessional Responsibili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7680" y="2133720"/>
            <a:ext cx="8896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a: Reflecting on Teach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b: Maintaining Accurate Record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c: Communicating with Famili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d: Contributing to the School and Distri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e: Growing and Developing Professionall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f: Showing Professionalis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2:57:56Z</dcterms:created>
  <dc:creator>Registered User</dc:creator>
  <dc:description/>
  <dc:language>en-US</dc:language>
  <cp:lastModifiedBy>Karen Verkler</cp:lastModifiedBy>
  <dcterms:modified xsi:type="dcterms:W3CDTF">2014-08-03T21:29:18Z</dcterms:modified>
  <cp:revision>3</cp:revision>
  <dc:subject/>
  <dc:title>The Four Domains of  Teaching Responsibility</dc:title>
</cp:coreProperties>
</file>